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2DCD-FCDC-4120-B6E7-6C56CC7B2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9F25-BE85-423E-A32C-F0CB8EFE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AED7-90CD-4141-8E65-C8F7768B8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32ED-D47D-4ED9-9A56-781998DD1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82A3-FCA8-4BD8-BA9B-77D452AB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124B-C6F8-460C-9CD7-0FCD224C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F453-ABA2-4998-AC64-9202FB93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09DA-8F0A-459A-98E3-6061FC23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13AA-00C6-49A0-9D40-F17453C9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5F9F-FF8F-423C-8110-3BB1FAC3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4C77-34C4-4572-A787-A734D60F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D582-A58C-4F0E-9371-FEACE455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1BA4-4B57-4E0B-9A02-BE0EE4613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14400" y="0"/>
            <a:ext cx="73915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ff">
                    <a:alpha val="47000"/>
                  </a:srgbClr>
                </a:solidFill>
                <a:latin typeface="Times New Roman"/>
              </a:rPr>
              <a:t>Famoso Personas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ff">
                  <a:alpha val="47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3809880"/>
            <a:ext cx="85726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99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y Amy Palombo, Avril Burke, and Yaa Ansah</a:t>
            </a:r>
            <a:endParaRPr b="0" lang="en-US" sz="1800" spc="1" strike="noStrike">
              <a:ln w="0">
                <a:noFill/>
              </a:ln>
              <a:solidFill>
                <a:srgbClr val="cc99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09840" cy="44197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895120" y="685800"/>
            <a:ext cx="579132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Channing Tatum es moreno no es rubio. </a:t>
            </a:r>
            <a:r>
              <a:rPr b="0" lang="es-ES" sz="2800" spc="-1" strike="noStrike">
                <a:solidFill>
                  <a:srgbClr val="99cc00"/>
                </a:solidFill>
                <a:latin typeface="Arial"/>
              </a:rPr>
              <a:t>Él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 muchacho es muy mucho guapo. </a:t>
            </a:r>
            <a:r>
              <a:rPr b="0" lang="es-ES" sz="2800" spc="-1" strike="noStrike">
                <a:solidFill>
                  <a:srgbClr val="99cc00"/>
                </a:solidFill>
                <a:latin typeface="Arial"/>
              </a:rPr>
              <a:t>Él muchacho es alto no es bajo. Channing Tatum es de California. Él nacionalidad es America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266720" y="13716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rique Iglesias es moreno no es rubio.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É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chacho es alto no es bajo.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Él serio no es grasioco. Enrique Iglesias es de Florida. Él nacionalida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es Hispánic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30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f3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23920" y="1371240"/>
            <a:ext cx="4038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uno Mars es feo no es guapo.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É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s popular no es timido. Bruno Mars es moreno no es rubio.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Él nacionalid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s Americano. Bruno Mars es de Los Angles, Californ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1480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181120" y="1600200"/>
            <a:ext cx="3429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Katy Perry es morena no es rubia. Ella es popular no es timida. Katy Perry es de California. Ella es linda no es fea. Ella nacionalidad es Americ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25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iana Grande es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elirroja no es morena o rubia. Ariana es popular no es timida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la muchacha es de California. Ariana es Americ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528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4T22:12:30Z</dcterms:created>
  <dc:creator>Rob</dc:creator>
  <dc:description/>
  <dc:language>en-US</dc:language>
  <cp:lastModifiedBy>Rob</cp:lastModifiedBy>
  <dcterms:modified xsi:type="dcterms:W3CDTF">2012-10-10T01:07:54Z</dcterms:modified>
  <cp:revision>6</cp:revision>
  <dc:subject/>
  <dc:title>Slide 1</dc:title>
</cp:coreProperties>
</file>